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9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7C1D-29FA-432E-9BAC-891F208FB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FA19-31AD-435E-996B-CF602DD88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499D-0713-44D8-AB00-7496B9BB0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2077-5486-4DE1-8669-D92DE3360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8417-1696-4EFA-BE3F-2350F65C7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8732-5EDC-4C2D-8F7B-EB7B1BD6E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7FCE-B8FC-4862-9AB1-B62565E0A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C29A-3E12-4C06-BB84-B48A34116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9D81-CC03-4BFC-B85C-F561DE25B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CBD6-230C-4299-ACFD-541106F1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7270-E745-496C-9B66-96C5DEBE1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F1F1-53EE-4FEC-8D0B-1FF3B876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C57C0-85C9-479B-9251-64E18BF4802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image" Target="../media/image18.jpe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9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20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"/>
          <p:cNvPicPr/>
          <p:nvPr/>
        </p:nvPicPr>
        <p:blipFill>
          <a:blip r:embed="rId3"/>
          <a:stretch/>
        </p:blipFill>
        <p:spPr>
          <a:xfrm>
            <a:off x="2863800" y="981000"/>
            <a:ext cx="5956200" cy="2298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"/>
          <p:cNvPicPr/>
          <p:nvPr/>
        </p:nvPicPr>
        <p:blipFill>
          <a:blip r:embed="rId4"/>
          <a:stretch/>
        </p:blipFill>
        <p:spPr>
          <a:xfrm>
            <a:off x="1547640" y="1484280"/>
            <a:ext cx="3515040" cy="488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"/>
          <p:cNvPicPr/>
          <p:nvPr/>
        </p:nvPicPr>
        <p:blipFill>
          <a:blip r:embed="rId5"/>
          <a:stretch/>
        </p:blipFill>
        <p:spPr>
          <a:xfrm>
            <a:off x="539640" y="2077920"/>
            <a:ext cx="4532400" cy="630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"/>
          <p:cNvPicPr/>
          <p:nvPr/>
        </p:nvPicPr>
        <p:blipFill>
          <a:blip r:embed="rId6"/>
          <a:stretch/>
        </p:blipFill>
        <p:spPr>
          <a:xfrm>
            <a:off x="250920" y="2708280"/>
            <a:ext cx="4878360" cy="566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7"/>
          <a:srcRect l="3788" t="5586" r="11449" b="78994"/>
          <a:stretch/>
        </p:blipFill>
        <p:spPr>
          <a:xfrm>
            <a:off x="3276720" y="92160"/>
            <a:ext cx="463860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8" name="عنوان 1"/>
          <p:cNvSpPr/>
          <p:nvPr/>
        </p:nvSpPr>
        <p:spPr>
          <a:xfrm>
            <a:off x="276120" y="1557360"/>
            <a:ext cx="86360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قوله </a:t>
            </a:r>
            <a:r>
              <a:rPr b="1" lang="ar-SA" sz="25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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 : (( بِاسْـمِكَ اللّهُـمَّ أَمـوتُ وَأَحْـيا )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3"/>
          <a:stretch/>
        </p:blipFill>
        <p:spPr>
          <a:xfrm>
            <a:off x="2568600" y="907920"/>
            <a:ext cx="6324480" cy="64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"/>
          <p:cNvPicPr/>
          <p:nvPr/>
        </p:nvPicPr>
        <p:blipFill>
          <a:blip r:embed="rId4"/>
          <a:srcRect l="3788" t="5586" r="11449" b="78994"/>
          <a:stretch/>
        </p:blipFill>
        <p:spPr>
          <a:xfrm>
            <a:off x="3276720" y="92160"/>
            <a:ext cx="463860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103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68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6" descr=""/>
          <p:cNvPicPr/>
          <p:nvPr/>
        </p:nvPicPr>
        <p:blipFill>
          <a:blip r:embed="rId3"/>
          <a:stretch/>
        </p:blipFill>
        <p:spPr>
          <a:xfrm>
            <a:off x="857160" y="1484280"/>
            <a:ext cx="8040600" cy="1081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"/>
          <p:cNvPicPr/>
          <p:nvPr/>
        </p:nvPicPr>
        <p:blipFill>
          <a:blip r:embed="rId4"/>
          <a:srcRect l="3788" t="5586" r="11449" b="78994"/>
          <a:stretch/>
        </p:blipFill>
        <p:spPr>
          <a:xfrm>
            <a:off x="3276720" y="92160"/>
            <a:ext cx="463860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108" name="عنوان 1"/>
          <p:cNvSpPr/>
          <p:nvPr/>
        </p:nvSpPr>
        <p:spPr>
          <a:xfrm>
            <a:off x="287280" y="2050920"/>
            <a:ext cx="856944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ظيفة الرسل :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إرشاد 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والتخويف من النا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م لا يريدوا الإيمان ب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8" descr=""/>
          <p:cNvPicPr/>
          <p:nvPr/>
        </p:nvPicPr>
        <p:blipFill>
          <a:blip r:embed="rId3"/>
          <a:stretch/>
        </p:blipFill>
        <p:spPr>
          <a:xfrm>
            <a:off x="539640" y="836640"/>
            <a:ext cx="8444160" cy="1168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"/>
          <p:cNvPicPr/>
          <p:nvPr/>
        </p:nvPicPr>
        <p:blipFill>
          <a:blip r:embed="rId4"/>
          <a:stretch/>
        </p:blipFill>
        <p:spPr>
          <a:xfrm>
            <a:off x="4930920" y="3068640"/>
            <a:ext cx="3962160" cy="584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"/>
          <p:cNvPicPr/>
          <p:nvPr/>
        </p:nvPicPr>
        <p:blipFill>
          <a:blip r:embed="rId5"/>
          <a:stretch/>
        </p:blipFill>
        <p:spPr>
          <a:xfrm>
            <a:off x="434880" y="4581360"/>
            <a:ext cx="8481960" cy="1397160"/>
          </a:xfrm>
          <a:prstGeom prst="rect">
            <a:avLst/>
          </a:prstGeom>
          <a:ln w="0">
            <a:noFill/>
          </a:ln>
        </p:spPr>
      </p:pic>
      <p:sp>
        <p:nvSpPr>
          <p:cNvPr id="112" name="عنوان 1"/>
          <p:cNvSpPr/>
          <p:nvPr/>
        </p:nvSpPr>
        <p:spPr>
          <a:xfrm>
            <a:off x="324000" y="3645000"/>
            <a:ext cx="856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عقبات : 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ملائكة يتعاقبون علي العباد حرس بالليل وحرس بالنهار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عنوان 1"/>
          <p:cNvSpPr/>
          <p:nvPr/>
        </p:nvSpPr>
        <p:spPr>
          <a:xfrm>
            <a:off x="324000" y="5877000"/>
            <a:ext cx="856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له يعلم ذلك قبل تخلقه ونفخ الروح في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6"/>
          <a:srcRect l="3788" t="5586" r="11449" b="78994"/>
          <a:stretch/>
        </p:blipFill>
        <p:spPr>
          <a:xfrm>
            <a:off x="3276720" y="92160"/>
            <a:ext cx="463860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7920"/>
            <a:ext cx="913752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10"/>
          <a:stretch/>
        </p:blipFill>
        <p:spPr>
          <a:xfrm>
            <a:off x="476280" y="1413000"/>
            <a:ext cx="819144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1304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8307360" cy="3384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948040" y="5008680"/>
            <a:ext cx="335268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75840" cy="1055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"/>
          <p:cNvPicPr/>
          <p:nvPr/>
        </p:nvPicPr>
        <p:blipFill>
          <a:blip r:embed="rId3"/>
          <a:stretch/>
        </p:blipFill>
        <p:spPr>
          <a:xfrm>
            <a:off x="108000" y="981000"/>
            <a:ext cx="8928000" cy="5761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4"/>
          <a:srcRect l="3788" t="5586" r="11449" b="78994"/>
          <a:stretch/>
        </p:blipFill>
        <p:spPr>
          <a:xfrm>
            <a:off x="3276720" y="155520"/>
            <a:ext cx="463860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1" descr=""/>
          <p:cNvPicPr/>
          <p:nvPr/>
        </p:nvPicPr>
        <p:blipFill>
          <a:blip r:embed="rId1"/>
          <a:stretch/>
        </p:blipFill>
        <p:spPr>
          <a:xfrm>
            <a:off x="239760" y="1816200"/>
            <a:ext cx="8724960" cy="4492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"/>
          <p:cNvPicPr/>
          <p:nvPr/>
        </p:nvPicPr>
        <p:blipFill>
          <a:blip r:embed="rId2"/>
          <a:stretch/>
        </p:blipFill>
        <p:spPr>
          <a:xfrm>
            <a:off x="0" y="804960"/>
            <a:ext cx="9144000" cy="75240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239760" y="407664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نبي يدعوهم إلى ربه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177840" y="907920"/>
            <a:ext cx="41781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وظيفة الرسل ووظيفة الملائك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50920" y="465300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زيد في الحمل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3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250920" y="515772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cs typeface="Times New Roman"/>
              </a:rPr>
              <a:t>للعبد ملائكة يتعاقبون عليه حرس بالليل وحرس بالنهار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62080" y="573408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عذابا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630396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علو الله المطل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5797440" y="6308640"/>
            <a:ext cx="309564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تعا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4"/>
          <a:srcRect l="3788" t="5586" r="11449" b="78994"/>
          <a:stretch/>
        </p:blipFill>
        <p:spPr>
          <a:xfrm>
            <a:off x="3276720" y="92160"/>
            <a:ext cx="463860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جهل بالكفار برتبة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نبوة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جهل الكفار بوظيف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أنبياء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234936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بعثة النبي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لهداية والإرشاد والدعوة إلى توحيد الله تعالى والتخويف من العذا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28875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عة علم الله تعا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كل شيء مما خفي أو ظه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27160" y="328464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مراقبة الله تعالى في السر والعلاني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sp>
        <p:nvSpPr>
          <p:cNvPr id="69" name="عنوان 1"/>
          <p:cNvSpPr/>
          <p:nvPr/>
        </p:nvSpPr>
        <p:spPr>
          <a:xfrm>
            <a:off x="250920" y="3716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في وجوب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راقبة الله تعالى في السر والعلانية</a:t>
            </a: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 الله تعالى لا تخفى عليه خافية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27160" y="4148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ن وظائف الملائك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حفظ العباد ورعايتهم وكتابة أعمال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179280" y="458136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يمان بالملائكة وأن لهم وظائف متعدد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227160" y="50133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جزاء من جنس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عم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227160" y="541008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تعالى لا يغير ما بقوم من خير أو شر حت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يغيروا ما بأنفس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179280" y="587700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ذا انتقلوا من الطاعة إلى المعصية كان التغيير من الل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عقاباً ل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2"/>
          <a:srcRect l="3788" t="5586" r="11449" b="78994"/>
          <a:stretch/>
        </p:blipFill>
        <p:spPr>
          <a:xfrm>
            <a:off x="3276720" y="92160"/>
            <a:ext cx="463860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ذا انتقلوا من المعصية  إلى الطاعة كان التغيير من الله </a:t>
            </a: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ثواباً لهم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رادة ومشيئة الله تعا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نافذ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"/>
          <p:cNvPicPr/>
          <p:nvPr/>
        </p:nvPicPr>
        <p:blipFill>
          <a:blip r:embed="rId2"/>
          <a:srcRect l="3788" t="5586" r="11449" b="78994"/>
          <a:stretch/>
        </p:blipFill>
        <p:spPr>
          <a:xfrm>
            <a:off x="3276720" y="92160"/>
            <a:ext cx="463860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3"/>
          <a:stretch/>
        </p:blipFill>
        <p:spPr>
          <a:xfrm>
            <a:off x="250920" y="981000"/>
            <a:ext cx="8642160" cy="229860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4643280" y="2133720"/>
            <a:ext cx="3673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اسع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عنوان 1"/>
          <p:cNvSpPr/>
          <p:nvPr/>
        </p:nvSpPr>
        <p:spPr>
          <a:xfrm>
            <a:off x="395280" y="2170080"/>
            <a:ext cx="31687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ستم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عنوان 1"/>
          <p:cNvSpPr/>
          <p:nvPr/>
        </p:nvSpPr>
        <p:spPr>
          <a:xfrm>
            <a:off x="395280" y="2673360"/>
            <a:ext cx="31687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حيط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عنوان 1"/>
          <p:cNvSpPr/>
          <p:nvPr/>
        </p:nvSpPr>
        <p:spPr>
          <a:xfrm>
            <a:off x="4716360" y="2673360"/>
            <a:ext cx="3672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شامل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4"/>
          <a:srcRect l="3788" t="5586" r="11449" b="78994"/>
          <a:stretch/>
        </p:blipFill>
        <p:spPr>
          <a:xfrm>
            <a:off x="3276720" y="92160"/>
            <a:ext cx="463860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23T10:20:24Z</dcterms:modified>
  <cp:revision>2043</cp:revision>
  <dc:subject/>
  <dc:title>عرض تقديمي في PowerPoint</dc:title>
</cp:coreProperties>
</file>